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media/image11.png" ContentType="image/png"/>
  <Override PartName="/ppt/media/image7.png" ContentType="image/pn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73AE-ED5F-4357-AFB4-A6AFCFFE0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hyperlink" Target="http://www.travelchinaguide.com/river/"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travelchinaguide.com/attraction/sichuan/chengdu/dujiangyan.ht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hina, Chengdu is always praised as the Tian Fu Zhi Guo, which means 'Nature's Storehouse'. Over 2,200 years ago, the city was threatened by the frequent floods caused by flooding of the Minjiang River (a tributary of the </a:t>
            </a:r>
            <a:r>
              <a:rPr b="0" lang="en-US" sz="1000" spc="-1" strike="noStrike" u="sng">
                <a:solidFill>
                  <a:srgbClr val="009999"/>
                </a:solidFill>
                <a:uFillTx/>
                <a:latin typeface="Arial"/>
                <a:hlinkClick r:id="rId1"/>
              </a:rPr>
              <a:t>Yangtze River</a:t>
            </a:r>
            <a:r>
              <a:rPr b="0" lang="en-US" sz="1000" spc="-1" strike="noStrike">
                <a:solidFill>
                  <a:srgbClr val="000000"/>
                </a:solidFill>
                <a:latin typeface="Arial"/>
              </a:rPr>
              <a:t> ). Li Bing, a local official of Sichuan Province at that time, together with his son, decided to construct an irrigation system on the Minjiang River to prevent flooding. After a lengthy study and a lot of hard work by the local people, the great Dujiangyan Irrigation Project was completed. Since then, the Chengdu Plain has been free of flooding and the people have been living peacefully and affluently. Now, the project is honored as the 'Treasure of Sichuan', which still plays a crucial role in draining off floodwater, irrigating farms and providing water resources for more than 50 cities in the provi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jiangyan is the oldest and only surviving no-dam irrigation system in the world; and a wonder in the development of Chinese science. The project consists of three important parts, namely Yuzui, Feishayan and Baopingkou scientifically designed to automatically control the water flow of the rivers from the mountains to the plains throughout the 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uzui, like a big fish lying in the Minjiang River, is a watershed dividing the river into two parts: inner river and outside river. Feisha Yan is a spillway that diverts the sand and stones of the inner river into the outer river. Baoping Kou, like a neck of a bottle, is used to bring water into the inner river from Minjiang. At the same time, Baoping Kou controls the amount of the intake water due to its reasonable location. These three parts interact with each other perfectly to form an effective water conservancy project. During the low-water season, 60% of the Minjiang water is brought into the inner river for irrigation while 40% of the water is drawn into the outside river. The situation is reversed in the flood season ensuring the water supply for irrigation and protection from flooding on the Chengdu Plain.</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regenttour.com/chinaplanner/ctu/ctu-sights-dujiangya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of the Dujiangyan irrigation project was begun by Li Bing, king of west Sichuan, in 256 B.C. and completed by his son, Er Lang. When Han settlers first arrived 2,200 years ago, the area was a flat plain plagued by frequent summer floods (and winter droughts) caused by the Minjiang, a Changjiang tributary that flows through the Chengdu/Chuan Xi plains. Workers using only hand tools cut a trunk canal, called the "Mouth of the Precious Jar," through a towering mountain in order to feed an extensive system of canals on the plains, thereby turning the Chengdu plains into one of the most fertile in China and giving rise to the description of Chengdu as Heaven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has been maintained and expanded ever since, and it is perhaps one of the world's oldest irrigation schemes in continuous use today. The Sichuanese are very grateful to Li Bing and his son. Both men have been deified (with temples built for them at Dujiangyan and elsewhere), and ceremonies are held every year to commemorate their achievement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existing miles built 2100 miles in 11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illion men, too poor to pay taxes wor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k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nded/tamped earth used on the plains and Gobi where stone was no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68-1644  extended / replaced older wall to 3000 mi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built th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Your guess/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commanded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NR did it take to build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 # labor did it t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carta.msn.com/map_701512661/grand_canal.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ublic.iastate.edu/~cfford/grand%20canal%20china.g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5-611 inordinate cost but unified north and south china – enabled country to survive/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K served to build, estimated 300K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 http://www.britannica.com/eb/article-71675/China se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A7A4F-DD49-4C39-9CD5-A08A58D96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58328-A6D9-48C0-BBE5-6B498D346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393ED-173D-496B-AA9C-E933DFD69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32447-22BC-4456-B947-92F2BE759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F9E13-2688-411A-91D9-87F285DC9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2B41E-8717-42F8-A1F5-A0E6C110D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DAD0D-815C-4E6A-9E73-BFAF38216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50DD0-46D0-4E28-9246-E14FFB30F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06D5D-E62B-470B-9436-C3D1EFC83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2A214-6051-4933-9563-D14F3A42E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1A373-2845-4D75-965F-11CE4B453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EE69A-2FF4-4834-B610-8BFFBA942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3306-A956-4C08-8E36-28A7E6E019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n.wikipedia.org/wiki/Image:Dujiangyankevee.jpg"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53316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flict and Coope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533160" y="1981080"/>
            <a:ext cx="7924680" cy="36576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ssential Questions:</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ow does government protect and help develop it’s society?</a:t>
            </a:r>
            <a:endParaRPr b="0" lang="en-US" sz="36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ich is more important an individual or the betterment of a cou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and Canal - Urba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Document 16.5a"/>
          <p:cNvPicPr/>
          <p:nvPr/>
        </p:nvPicPr>
        <p:blipFill>
          <a:blip r:embed="rId1"/>
          <a:stretch/>
        </p:blipFill>
        <p:spPr>
          <a:xfrm>
            <a:off x="533520" y="1066680"/>
            <a:ext cx="8229600" cy="615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and Canal - Urban</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Document 16.5b"/>
          <p:cNvPicPr/>
          <p:nvPr/>
        </p:nvPicPr>
        <p:blipFill>
          <a:blip r:embed="rId1"/>
          <a:stretch/>
        </p:blipFill>
        <p:spPr>
          <a:xfrm>
            <a:off x="380880" y="990720"/>
            <a:ext cx="8458200" cy="632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ujiangyan Irrigation System 256 BC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No-dam irrigation system"/>
          <p:cNvPicPr/>
          <p:nvPr/>
        </p:nvPicPr>
        <p:blipFill>
          <a:blip r:embed="rId1"/>
          <a:stretch/>
        </p:blipFill>
        <p:spPr>
          <a:xfrm>
            <a:off x="457200" y="1306440"/>
            <a:ext cx="7848720" cy="5551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ujiangyan Irrigation System 256 BCE</a:t>
            </a:r>
            <a:br>
              <a:rPr sz="4000"/>
            </a:br>
            <a:r>
              <a:rPr b="0" lang="en-US" sz="4000" spc="-1" strike="noStrike">
                <a:solidFill>
                  <a:srgbClr val="000000"/>
                </a:solidFill>
                <a:latin typeface="Arial"/>
              </a:rPr>
              <a:t>man-made island</a:t>
            </a:r>
            <a:endParaRPr b="0" lang="en-US" sz="4000" spc="-1" strike="noStrike">
              <a:solidFill>
                <a:srgbClr val="000000"/>
              </a:solidFill>
              <a:latin typeface="Arial"/>
            </a:endParaRPr>
          </a:p>
        </p:txBody>
      </p:sp>
      <p:sp>
        <p:nvSpPr>
          <p:cNvPr id="79" name="PlaceHolder 2"/>
          <p:cNvSpPr>
            <a:spLocks noGrp="1"/>
          </p:cNvSpPr>
          <p:nvPr>
            <p:ph/>
          </p:nvPr>
        </p:nvSpPr>
        <p:spPr>
          <a:xfrm>
            <a:off x="457200" y="5257800"/>
            <a:ext cx="380880" cy="868320"/>
          </a:xfrm>
          <a:prstGeom prst="rect">
            <a:avLst/>
          </a:prstGeom>
          <a:noFill/>
          <a:ln w="0">
            <a:noFill/>
          </a:ln>
        </p:spPr>
        <p:txBody>
          <a:bodyPr lIns="90000" rIns="90000" tIns="46800" bIns="46800" anchor="t">
            <a:normAutofit fontScale="2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The man-made levee constructed to divide the Min River.">
            <a:hlinkClick r:id="rId1"/>
          </p:cNvPr>
          <p:cNvPicPr/>
          <p:nvPr/>
        </p:nvPicPr>
        <p:blipFill>
          <a:blip r:embed="rId2"/>
          <a:srcRect l="0" t="20000" r="0" b="0"/>
          <a:stretch/>
        </p:blipFill>
        <p:spPr>
          <a:xfrm>
            <a:off x="457200" y="1600200"/>
            <a:ext cx="7772400" cy="466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cribe/Analyze the Images</a:t>
            </a:r>
            <a:br>
              <a:rPr sz="4000"/>
            </a:br>
            <a:r>
              <a:rPr b="0" lang="en-US" sz="4000" spc="-1" strike="noStrike">
                <a:solidFill>
                  <a:srgbClr val="000000"/>
                </a:solidFill>
                <a:latin typeface="Arial"/>
              </a:rPr>
              <a:t>Copy in RED and SKIP 5 Lines</a:t>
            </a:r>
            <a:endParaRPr b="0" lang="en-US" sz="4000" spc="-1" strike="noStrike">
              <a:solidFill>
                <a:srgbClr val="000000"/>
              </a:solidFill>
              <a:latin typeface="Arial"/>
            </a:endParaRPr>
          </a:p>
        </p:txBody>
      </p:sp>
      <p:sp>
        <p:nvSpPr>
          <p:cNvPr id="51" name="PlaceHolder 2"/>
          <p:cNvSpPr>
            <a:spLocks noGrp="1"/>
          </p:cNvSpPr>
          <p:nvPr>
            <p:ph/>
          </p:nvPr>
        </p:nvSpPr>
        <p:spPr>
          <a:xfrm>
            <a:off x="457200" y="1599840"/>
            <a:ext cx="8229600" cy="2438280"/>
          </a:xfrm>
          <a:prstGeom prst="rect">
            <a:avLst/>
          </a:prstGeom>
          <a:noFill/>
          <a:ln w="0">
            <a:noFill/>
          </a:ln>
        </p:spPr>
        <p:txBody>
          <a:bodyPr lIns="90000" rIns="90000" tIns="46800" bIns="46800" anchor="t">
            <a:normAutofit fontScale="82000"/>
          </a:bodyPr>
          <a:p>
            <a:pPr marL="499680" indent="-499680">
              <a:spcBef>
                <a:spcPts val="10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Building the Great Wall: 221-</a:t>
            </a:r>
            <a:endParaRPr b="0" lang="en-US" sz="4000" spc="-1" strike="noStrike">
              <a:solidFill>
                <a:srgbClr val="000000"/>
              </a:solidFill>
              <a:latin typeface="Arial"/>
            </a:endParaRPr>
          </a:p>
          <a:p>
            <a:pPr marL="499680" indent="-499680">
              <a:spcBef>
                <a:spcPts val="10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he Grand Canal RURAL:  604-611</a:t>
            </a:r>
            <a:endParaRPr b="0" lang="en-US" sz="4000" spc="-1" strike="noStrike">
              <a:solidFill>
                <a:srgbClr val="000000"/>
              </a:solidFill>
              <a:latin typeface="Arial"/>
            </a:endParaRPr>
          </a:p>
          <a:p>
            <a:pPr marL="499680" indent="-499680">
              <a:spcBef>
                <a:spcPts val="10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he Grand Canal URBAN </a:t>
            </a:r>
            <a:endParaRPr b="0" lang="en-US" sz="4000" spc="-1" strike="noStrike">
              <a:solidFill>
                <a:srgbClr val="000000"/>
              </a:solidFill>
              <a:latin typeface="Arial"/>
            </a:endParaRPr>
          </a:p>
          <a:p>
            <a:pPr marL="499680" indent="-499680">
              <a:spcBef>
                <a:spcPts val="10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Dujiangyan Irrigation System 256 B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Wall built/expanded under Emperor Qin 221 BCE</a:t>
            </a:r>
            <a:endParaRPr b="0" lang="en-US" sz="4000" spc="-1" strike="noStrike">
              <a:solidFill>
                <a:srgbClr val="000000"/>
              </a:solidFill>
              <a:latin typeface="Arial"/>
            </a:endParaRPr>
          </a:p>
        </p:txBody>
      </p:sp>
      <p:pic>
        <p:nvPicPr>
          <p:cNvPr id="53" name="" descr=""/>
          <p:cNvPicPr/>
          <p:nvPr/>
        </p:nvPicPr>
        <p:blipFill>
          <a:blip r:embed="rId1"/>
          <a:stretch/>
        </p:blipFill>
        <p:spPr>
          <a:xfrm>
            <a:off x="1295280" y="1447920"/>
            <a:ext cx="7848720" cy="586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the Great Wall 221 BCE</a:t>
            </a:r>
            <a:endParaRPr b="0" lang="en-US" sz="4000" spc="-1" strike="noStrike">
              <a:solidFill>
                <a:srgbClr val="000000"/>
              </a:solidFill>
              <a:latin typeface="Arial"/>
            </a:endParaRPr>
          </a:p>
        </p:txBody>
      </p:sp>
      <p:pic>
        <p:nvPicPr>
          <p:cNvPr id="55" name="" descr="Document 16.4"/>
          <p:cNvPicPr/>
          <p:nvPr/>
        </p:nvPicPr>
        <p:blipFill>
          <a:blip r:embed="rId1"/>
          <a:srcRect l="0" t="0" r="0" b="61006"/>
          <a:stretch/>
        </p:blipFill>
        <p:spPr>
          <a:xfrm>
            <a:off x="0" y="1498680"/>
            <a:ext cx="8686800" cy="535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reat Wall Restored by the Ming Dynas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380880" y="1295280"/>
            <a:ext cx="8763120" cy="683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Wall: </a:t>
            </a:r>
            <a:endParaRPr b="0" lang="en-US" sz="4400" spc="-1" strike="noStrike">
              <a:solidFill>
                <a:srgbClr val="000000"/>
              </a:solidFill>
              <a:latin typeface="Arial"/>
            </a:endParaRPr>
          </a:p>
        </p:txBody>
      </p:sp>
      <p:pic>
        <p:nvPicPr>
          <p:cNvPr id="60" name="" descr="Document 16.1a"/>
          <p:cNvPicPr/>
          <p:nvPr/>
        </p:nvPicPr>
        <p:blipFill>
          <a:blip r:embed="rId1"/>
          <a:stretch/>
        </p:blipFill>
        <p:spPr>
          <a:xfrm>
            <a:off x="0" y="1339920"/>
            <a:ext cx="8396280" cy="551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and Canal: Beijing to </a:t>
            </a:r>
            <a:br>
              <a:rPr sz="4000"/>
            </a:br>
            <a:r>
              <a:rPr b="0" lang="en-US" sz="4000" spc="-1" strike="noStrike">
                <a:solidFill>
                  <a:srgbClr val="000000"/>
                </a:solidFill>
                <a:latin typeface="Arial"/>
              </a:rPr>
              <a:t>Shanghai:  604-611 CE </a:t>
            </a:r>
            <a:endParaRPr b="0" lang="en-US" sz="4000" spc="-1" strike="noStrike">
              <a:solidFill>
                <a:srgbClr val="000000"/>
              </a:solidFill>
              <a:latin typeface="Arial"/>
            </a:endParaRPr>
          </a:p>
        </p:txBody>
      </p:sp>
      <p:pic>
        <p:nvPicPr>
          <p:cNvPr id="62" name="" descr=""/>
          <p:cNvPicPr/>
          <p:nvPr/>
        </p:nvPicPr>
        <p:blipFill>
          <a:blip r:embed="rId1"/>
          <a:stretch/>
        </p:blipFill>
        <p:spPr>
          <a:xfrm>
            <a:off x="838080" y="1600200"/>
            <a:ext cx="7848720" cy="633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and Canal: Today</a:t>
            </a:r>
            <a:endParaRPr b="0" lang="en-US" sz="4400" spc="-1" strike="noStrike">
              <a:solidFill>
                <a:srgbClr val="000000"/>
              </a:solidFill>
              <a:latin typeface="Arial"/>
            </a:endParaRPr>
          </a:p>
        </p:txBody>
      </p:sp>
      <p:sp>
        <p:nvSpPr>
          <p:cNvPr id="64" name="PlaceHolder 2"/>
          <p:cNvSpPr>
            <a:spLocks noGrp="1"/>
          </p:cNvSpPr>
          <p:nvPr>
            <p:ph/>
          </p:nvPr>
        </p:nvSpPr>
        <p:spPr>
          <a:xfrm>
            <a:off x="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Map - Click to zoom"/>
          <p:cNvPicPr/>
          <p:nvPr/>
        </p:nvPicPr>
        <p:blipFill>
          <a:blip r:embed="rId1"/>
          <a:stretch/>
        </p:blipFill>
        <p:spPr>
          <a:xfrm>
            <a:off x="762120" y="1560600"/>
            <a:ext cx="6705360" cy="529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and Canal - Rural</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457200" y="1295280"/>
            <a:ext cx="8686800" cy="46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20:09:15Z</dcterms:created>
  <dc:creator> </dc:creator>
  <dc:description/>
  <dc:language>en-US</dc:language>
  <cp:lastModifiedBy>Karoline</cp:lastModifiedBy>
  <dcterms:modified xsi:type="dcterms:W3CDTF">2008-04-20T18:24:59Z</dcterms:modified>
  <cp:revision>25</cp:revision>
  <dc:subject/>
  <dc:title>Invasion / Coexistence</dc:title>
</cp:coreProperties>
</file>